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DEB-CB5A-44CB-952A-7123D48B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C67-01E8-4580-A61E-749B1CB2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CD0-CF3C-4372-BF20-A9E0BF37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68A-1400-46A3-8EF4-F265F38E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F8D-02B5-49DC-B574-003DF06D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F12-94A8-415E-87F1-FDCF4AF8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1CE-FED2-4849-A0CD-15CB4B12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7A1-0A84-4D0F-99AC-427E7FC8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868-ABDF-4C4E-85F7-E7862884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527-51E0-4DD2-AA56-22434EE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9C4-DBF8-45CB-8245-CBE9A42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6A4-1BC9-41FA-AF8A-5E71AB3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6059-7141-49A1-96A0-6C07F92CA0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7614"/>
            </a:gs>
            <a:gs pos="50000">
              <a:srgbClr val="20fe2b"/>
            </a:gs>
            <a:gs pos="100000">
              <a:srgbClr val="0f76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50920" y="3284640"/>
            <a:ext cx="8713800" cy="140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924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Как складывалась геометрия?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ЧЕТ И ЦИФРЫ  ИНДЕЙЦЕВ МАЙ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ейшими цифрами у них были чёрточки и точки, которыми записывались числа от 1 до 19. Точками они обозначали единицы от 1 до 4, чёрточкой — 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ОЗИЦИОННАЯ ДЕСЯТИЧНАЯ СИС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й системе для записи одинакового числа единиц, десятков, сотен или тысяч использовались одни и те же символы, но дополнительно помечалось, в каком разряде они стоя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не указывать имена разрядов, то число всё равно можно прочитать, так как у каждого разряда есть своё «посадочное место» — пози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rebuchet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20fe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fe2b"/>
                </a:solidFill>
                <a:latin typeface="Trebuchet MS"/>
              </a:rPr>
              <a:t>УГЛУБЛЕННОЕ ИЗУЧЕНИЕ ИСТОРИИ ПРОИСХОЖДЕНИЯ НАУКИ ГЕОМЕТ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20fe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fe2b"/>
                </a:solidFill>
                <a:latin typeface="Trebuchet MS"/>
              </a:rPr>
              <a:t>ПРЕОБЩЕНИЕ К ДОСТИЖЕНИЯМ МИРОВОЙ ИСТО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WordArt 5"/>
          <p:cNvSpPr txBox="1"/>
          <p:nvPr/>
        </p:nvSpPr>
        <p:spPr>
          <a:xfrm>
            <a:off x="684360" y="3357720"/>
            <a:ext cx="7734240" cy="17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таринные системы счет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9"/>
          <p:cNvGraphicFramePr/>
          <p:nvPr/>
        </p:nvGraphicFramePr>
        <p:xfrm>
          <a:off x="0" y="-144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55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rebuchet MS"/>
              </a:rPr>
              <a:t>Сотни тысяч лет до нашего времени люди занимались собирательством, охотой и скотоводством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Trebuchet MS"/>
              </a:rPr>
              <a:t>Постепенное совершенствование жизненного уклада первобытных людей способствовало возникновению у них потребностям считать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ИСТЕМА ЗАПИСИ ЧИСЕ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6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ЕРОГЛИФИЧЕСКАЯ СИСТЕМА ДРЕВНИХ ЕГИПТЯ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3—2,5 тыс. лет до новой эры древние египтяне придумали свою числовую систему. В ней ключевые числа: 1, 10,100 и т. д. — изображались специальными значками — иероглиф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469200" y="1413000"/>
            <a:ext cx="2674800" cy="544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0" y="5657760"/>
            <a:ext cx="6437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РУГИЕ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египетской и римской к иероглифиче­ским системам чисел относятся финикийская, пальмирская, критская, сирийская, греческая аттическая, или Геродиано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вестны также старокитайская, староиндийская, ацтекская иероглифические систе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РИМСКАЯ СИСТЕМА СЧЕ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211640" y="1557360"/>
          <a:ext cx="4500720" cy="4206960"/>
        </p:xfrm>
        <a:graphic>
          <a:graphicData uri="http://schemas.openxmlformats.org/drawingml/2006/table">
            <a:tbl>
              <a:tblPr/>
              <a:tblGrid>
                <a:gridCol w="461880"/>
                <a:gridCol w="636840"/>
                <a:gridCol w="434880"/>
                <a:gridCol w="657000"/>
                <a:gridCol w="471600"/>
                <a:gridCol w="606600"/>
                <a:gridCol w="123192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   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M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MM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267" descr=""/>
          <p:cNvPicPr/>
          <p:nvPr/>
        </p:nvPicPr>
        <p:blipFill>
          <a:blip r:embed="rId1"/>
          <a:stretch/>
        </p:blipFill>
        <p:spPr>
          <a:xfrm>
            <a:off x="0" y="1484280"/>
            <a:ext cx="3419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АЛФАВИТНАЯ СИСТ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80000" cy="50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924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ШЕСТИДЕСЯТЕРИЧНАЯ (ВАВИЛОНСКАЯ) СИС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564000" y="1811160"/>
            <a:ext cx="5580000" cy="504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179280" y="4076640"/>
            <a:ext cx="3241800" cy="558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1917720"/>
            <a:ext cx="67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ейшими цифрами в их систе­ме служили два знака: вертикальный клин - для обозначения 1, и горизонтальный клин — для 1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3"/>
          <a:stretch/>
        </p:blipFill>
        <p:spPr>
          <a:xfrm>
            <a:off x="0" y="5300640"/>
            <a:ext cx="356400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ерентьева</cp:lastModifiedBy>
  <dcterms:modified xsi:type="dcterms:W3CDTF">2010-05-24T11:32:38Z</dcterms:modified>
  <cp:revision>3</cp:revision>
  <dc:subject/>
  <dc:title>PowerPoint Presentation</dc:title>
</cp:coreProperties>
</file>